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41A6-20A1-4FAA-936A-41A9EDDC4A2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8D89-BFF2-4D09-A5F5-10309ADFF4F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93FA-3022-4263-8242-6CFF6CA9C14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421C-1440-450E-B799-8A930A2789C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E182-EB7A-4879-B61E-0BE66659D6B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325E-BC0B-4FC2-A938-BA3C6871525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B22D-3691-4658-B20A-D1828FFA2C9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9E78-B2A8-4A5F-A5A6-4DBC4319C123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995C-56AF-4436-8ACE-92F293A9EA0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6C69-BC20-40F5-BA83-14F0594D939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FBD2-1B72-4748-8102-EF013960B74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9990-43F6-4D29-B3EE-B5F735304CF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297-262A-4484-95BD-631F629614E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BD37-66F3-40CC-AAEF-B1B7916D9EC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0738-73D5-4AB1-875C-25F49706063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22D8-1850-4AF2-B7F8-EF12B55CA9D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4699-9E3F-4B22-AB52-FF7EF5C310E9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BD1D-532E-4F9B-B980-CAD649B2CD3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2E18-596B-45EE-9719-F4B964060C5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85D8-1FD9-4A7F-926B-5DD1A467130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B638-A49D-4118-936C-F8D78586756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2CA3-AE38-46D2-B8DF-406DFF9DF85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C31F-FC01-49A2-8EC9-DDBA76AEAD4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A43C-2F07-4FA8-AA4A-F407F7FD85B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8545-7A6F-4155-80C6-8210E259316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3D12-3BC2-42B7-B4F6-0229EA8B857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6C58-8440-4CC8-BAD0-2AE865513544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BC78-3048-477E-808B-0234F72C684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3F28-E3D3-4CA6-BBD2-888FC596E9D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B438-0A9E-4185-938C-12D50D0BB1FC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43A5-2F28-43CF-A735-9A8282A9240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8472-471F-413F-B141-4E1053A04236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7F7F-15D0-4684-B1A2-B52EF16CCD2D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1C66-EF1E-4779-B709-EEF184D45375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7535-621C-4ECD-9D47-E6FE7B8F5136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E6E4-5D22-4616-AAFC-254F8C084086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AF76-3F43-4CD9-AFC3-C16B3596CE77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6AAF-B184-4889-9563-906A55ACDF32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D27E-561C-435A-B0E8-51B4E4ED7A4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6A86-521F-48D6-93BD-F5D53386F86B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B14C-2F6D-427A-ADFC-5DACBFC06C5F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0C4E-2A9D-41BB-8B96-ECC550EE490E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E3AE-01BD-490B-AA6E-B9E4642FD0E6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F08F-61CD-4C10-9888-457F62E509C7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5D1B-508F-49AF-B969-60A446BA7511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2B38-54A4-4842-ADDB-499A8A925205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8C5C-EAF6-48C2-9409-564271923CE8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8D74-3DCE-4352-BC04-F38E360125F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BCE3-9209-4AF1-B6F8-962432D7B86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2F8A-428A-49D1-8CDF-2C89A2D59DEB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A9FE-8F98-453A-8F35-F09DEE15D96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057-321B-4700-A10D-D7753128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3CF-A01F-4C7D-B440-543D8694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BCE-8D4C-4ADC-91BC-0A122995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B41-47C9-4369-8411-0C183287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D8D3-5E99-4F3F-8BAF-EDAE7717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C106-E0C9-4431-B743-926DB6E2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5689-0F1A-4295-84D1-96D1C92C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9095-9BA0-49C4-8F6A-F41E1835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F2BD-4E62-46B5-9EAC-7A6BBD24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6319-A25B-4984-B85D-0C582957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83BA-3E15-4A68-BA06-CD95FA87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233-1300-4EC8-8B1B-3D639B2F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98BA-94D9-475E-8649-5FA7BBD2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6BB9-DD3C-4F76-9205-C6090A2A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2397-F2A9-487E-8AE8-5D4A9DFB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5DB0-26C6-46D1-93D8-BD30CA27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4139-F56D-4C07-BFB4-39BD374A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A4DAC-218E-43EC-9A2F-99D7ACE9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40960-506E-4E52-96C2-A0A09C34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271C7-A767-417D-84A8-F66F4C76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FBDE4-F460-46E4-B647-CDDAB1F5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C79FD-7815-426E-9F0B-2531EDCA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527-0BD4-4321-B0B5-CA61D5C1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11F9C-CAED-4D65-9444-2F3472A8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EA8D2-E633-4CDC-948D-4E8BB1DC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50F23-49AC-4FAD-A8F2-C761B1D5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2D094-1816-4842-BC37-BA6F8DDA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FF945-91E3-43C7-95A8-D72DA086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D8F7E-2AFE-4DF8-9D70-96D62C28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634B0-66CF-432F-8E3D-1473C482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99BDF-7936-4284-8631-930BECCB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4AF0F-9D61-42F8-9796-740CD25A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CA65-A7FF-4406-ADB2-5F1A4C7B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86D-3C5F-4CF2-8EDF-5148318A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8477B-6F81-4E1D-9280-FE9C5AA3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54ED4-9DA6-4BB7-9663-428BEFA3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91BA-8481-48E3-B5CC-CD3802AD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EBF1-0D66-4A8F-9789-A4F252E5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9661-B711-4BDE-A5AA-D9FB3D8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8804-994A-48C5-911F-8D28E37A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E885F-3F3F-476C-8AAB-31D06CB9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29F7E-A7E5-4CF0-A821-4B70F8AB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F520D-8AE0-4277-B2A1-F6E4CB94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20DE4-2065-4AD8-B68B-87097574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C4D-5730-4864-8112-ED6064B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EF820-1325-46EB-8E0F-CB73B601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964EB-68C1-4D8E-887B-34953CD6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9FAAD-E76E-468F-9E90-BFE20AE0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A1583-EC15-4049-B410-7C548536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4955E-C468-4F6F-A6E8-6C8181EF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52523-367F-4CCD-BA60-4CCDBF88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86451-77CE-4701-85F1-371F12E9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295ED-FB56-4ADA-B43D-DA8D3FF3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D7264-D9A8-491A-A06C-0537A4B3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4CF36-5ED2-482A-B458-D64CF7B2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D50-B349-4695-ACAF-C567DEA6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FCD65-8210-47D4-9AE8-F1B53304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B05C8-54D6-4188-A920-AE5469F3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8148B-50EB-4E11-842B-FF42C4AC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D3D72-9800-4EDE-BA7D-D0A32D25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B3896-3082-450E-AE46-9DB07D7C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66EC6-098D-4BD2-B500-A305F8FB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0B495-5180-497E-8733-0EFDD2A9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13D07-9B9F-44A9-9794-593D04FB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23E3D-C0F0-4F60-A7CE-6DF89B62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C8BE4-19AD-476D-B949-830306E6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7DD-2CA2-4790-B56E-E5D48485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65371-C259-41B4-B152-0E6E5555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4F99D-6CAB-44EC-B0B7-458BDB38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071D3-E490-4943-A31F-28083DB5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756F1-1004-43DA-8E92-17E75A6F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75D5F-E094-4DA4-AEBB-55715E0A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EB24B-50DB-4468-AA68-D39DC0C4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EA96E-AA6D-423F-8404-A66FC2B2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969B1-D186-4A6A-9E92-AE4874C2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5A529-CE8F-45EF-B7BB-FB0B74FA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8310C-EC38-4267-84AD-32BC29AA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254-E926-403B-B01E-61D764AB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56513-4F39-47F9-9946-E88D5437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6DC4D-672C-4B3F-AD52-DB03741E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662C03-123B-40B9-96B3-9DC6A37D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13D66-19BF-46C5-ADE9-1B4EEE03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51DE9-8C45-45FE-96C1-64CE706D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190-35C7-4A0B-B82A-D4EAAEC0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08D5-E93D-440B-A6E4-AAE93F6F117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E909-FFF2-4AF9-BAED-8941A707742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4732-2F6D-4E50-9F7D-F2747D61327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BE3D-AEED-4534-ABC3-9EB66F165BB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444D-0CA6-4686-828A-7EC9FCA8893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7C1E-39DC-4B99-9662-80E312A8FD0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B7F1-48A3-4894-9E20-4237198A76C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84000" y="13410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1f497d"/>
                </a:solidFill>
                <a:latin typeface="Century Schoolbook"/>
              </a:rPr>
              <a:t>HIDRATACIÓN</a:t>
            </a:r>
            <a:endParaRPr b="0" lang="en-US" sz="5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00360" y="5003640"/>
            <a:ext cx="39574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ra. Thelma Suau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497d"/>
                </a:solidFill>
                <a:latin typeface="Century Schoolbook"/>
              </a:rPr>
              <a:t>Dpto. Ped y cirugia Infantil S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logo U"/>
          <p:cNvPicPr/>
          <p:nvPr/>
        </p:nvPicPr>
        <p:blipFill>
          <a:blip r:embed="rId1"/>
          <a:stretch/>
        </p:blipFill>
        <p:spPr>
          <a:xfrm>
            <a:off x="5508720" y="3068640"/>
            <a:ext cx="806400" cy="1512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http://t1.gstatic.com/images?q=tbn:ANd9GcRSk28m57rCwmeP74VLZyQOOyysF7QyUQ6GxcwGln-tt6wn5gHDhg"/>
          <p:cNvPicPr/>
          <p:nvPr/>
        </p:nvPicPr>
        <p:blipFill>
          <a:blip r:embed="rId2"/>
          <a:stretch/>
        </p:blipFill>
        <p:spPr>
          <a:xfrm>
            <a:off x="900000" y="333360"/>
            <a:ext cx="3024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a forma de calcular la necesidad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Superficie corporal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PESO X 4)+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ctr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PESO + 90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requiere del conocimiento del peso y talla para su cálculo 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utilización de tabla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e utiliza de preferencia en pacientes mayores de 20 Kg. Y se estiman como entre 1.800 a 2000 ml/m² s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entury Schoolbook"/>
              </a:rPr>
              <a:t>APORTE VOLUMEN HOLLIDAY V/S SC</a:t>
            </a:r>
            <a:br>
              <a:rPr sz="2700"/>
            </a:b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993080" cy="5113440"/>
          </a:xfrm>
          <a:prstGeom prst="rect">
            <a:avLst/>
          </a:prstGeom>
          <a:ln w="0">
            <a:noFill/>
          </a:ln>
        </p:spPr>
      </p:pic>
      <p:sp>
        <p:nvSpPr>
          <p:cNvPr id="385" name="3 Flecha arriba"/>
          <p:cNvSpPr/>
          <p:nvPr/>
        </p:nvSpPr>
        <p:spPr>
          <a:xfrm>
            <a:off x="2587680" y="3860640"/>
            <a:ext cx="243000" cy="97812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CALCULO VELOCIDAD INFUS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87" name="2 Marcador de contenido" descr=""/>
          <p:cNvPicPr/>
          <p:nvPr/>
        </p:nvPicPr>
        <p:blipFill>
          <a:blip r:embed="rId1"/>
          <a:stretch/>
        </p:blipFill>
        <p:spPr>
          <a:xfrm>
            <a:off x="365040" y="1603440"/>
            <a:ext cx="75596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JEMPL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OLLID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mayor 1 año  6 meses, peso 11,5 K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x 10 = 1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,5 x 50  =     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 1075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5 GOTAS POR MINU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270320" y="1125000"/>
            <a:ext cx="3657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UPERFICIE CORP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C=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11,5 X 4) + 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1,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OTAL: 1800- 2000 X 0,5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940 – 104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3 – 14 GOTAS/M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entury Schoolbook"/>
              </a:rPr>
              <a:t>REQUERIMIENTOS DE ELECTROLITOS: 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Na+ 3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K+ 2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Cl- 5 meq/Kg/dí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1" descr="C:\Documents and Settings\thelma\Mis documentos\Documentos Thelma\CLASES\libro_transtornos_clinicos_de_agua_electrolitos_grd.jpg"/>
          <p:cNvPicPr/>
          <p:nvPr/>
        </p:nvPicPr>
        <p:blipFill>
          <a:blip r:embed="rId1"/>
          <a:stretch/>
        </p:blipFill>
        <p:spPr>
          <a:xfrm>
            <a:off x="5796000" y="1844640"/>
            <a:ext cx="2395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DEFICIT - DES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68360" y="1844640"/>
          <a:ext cx="7848720" cy="4227480"/>
        </p:xfrm>
        <a:graphic>
          <a:graphicData uri="http://schemas.openxmlformats.org/drawingml/2006/table">
            <a:tbl>
              <a:tblPr/>
              <a:tblGrid>
                <a:gridCol w="2052720"/>
                <a:gridCol w="1541160"/>
                <a:gridCol w="2086200"/>
                <a:gridCol w="2168640"/>
              </a:tblGrid>
              <a:tr h="40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: le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: moderad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 III: se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rgor y elasti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d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y disminu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co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s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r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car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 dé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ur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uri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a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ntan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rimida 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ón oc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jos hund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u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Rectangle 1"/>
          <p:cNvSpPr/>
          <p:nvPr/>
        </p:nvSpPr>
        <p:spPr>
          <a:xfrm>
            <a:off x="3251520" y="5976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ignos y Síntomas según grado de deshidra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DEFICIT SEGÚN PERDIDA DE PES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95280" y="1844640"/>
          <a:ext cx="7529400" cy="3024360"/>
        </p:xfrm>
        <a:graphic>
          <a:graphicData uri="http://schemas.openxmlformats.org/drawingml/2006/table">
            <a:tbl>
              <a:tblPr/>
              <a:tblGrid>
                <a:gridCol w="3456000"/>
                <a:gridCol w="2089080"/>
                <a:gridCol w="19843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HIDRATAC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C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DER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V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02" name="Picture 2" descr="C:\Documents and Settings\thelma\Mis documentos\Documentos Thelma\CLASES\deshidratacion21.jpg"/>
          <p:cNvPicPr/>
          <p:nvPr/>
        </p:nvPicPr>
        <p:blipFill>
          <a:blip r:embed="rId1"/>
          <a:stretch/>
        </p:blipFill>
        <p:spPr>
          <a:xfrm>
            <a:off x="539640" y="836640"/>
            <a:ext cx="3024360" cy="39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Documents and Settings\thelma\Mis documentos\Documentos Thelma\CLASES\DESHIDRATMOD.jpg"/>
          <p:cNvPicPr/>
          <p:nvPr/>
        </p:nvPicPr>
        <p:blipFill>
          <a:blip r:embed="rId2"/>
          <a:stretch/>
        </p:blipFill>
        <p:spPr>
          <a:xfrm>
            <a:off x="3564000" y="549360"/>
            <a:ext cx="4206960" cy="2797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Documents and Settings\thelma\Mis documentos\Documentos Thelma\CLASES\deshid grave.jpg"/>
          <p:cNvPicPr/>
          <p:nvPr/>
        </p:nvPicPr>
        <p:blipFill>
          <a:blip r:embed="rId3"/>
          <a:stretch/>
        </p:blipFill>
        <p:spPr>
          <a:xfrm>
            <a:off x="3635280" y="3357720"/>
            <a:ext cx="4249800" cy="322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entury Schoolbook"/>
              </a:rPr>
              <a:t>EL AGUA ES VIDA</a:t>
            </a:r>
            <a:endParaRPr b="0" lang="en-US" sz="44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63" name="6 Marcador de contenido" descr="desierto.jpg"/>
          <p:cNvPicPr/>
          <p:nvPr/>
        </p:nvPicPr>
        <p:blipFill>
          <a:blip r:embed="rId1"/>
          <a:stretch/>
        </p:blipFill>
        <p:spPr>
          <a:xfrm>
            <a:off x="468360" y="1628640"/>
            <a:ext cx="3510000" cy="2351160"/>
          </a:xfrm>
          <a:prstGeom prst="rect">
            <a:avLst/>
          </a:prstGeom>
          <a:ln w="0">
            <a:noFill/>
          </a:ln>
        </p:spPr>
      </p:pic>
      <p:pic>
        <p:nvPicPr>
          <p:cNvPr id="364" name="7 Marcador de contenido" descr="desierto florido.jpg"/>
          <p:cNvPicPr/>
          <p:nvPr/>
        </p:nvPicPr>
        <p:blipFill>
          <a:blip r:embed="rId2"/>
          <a:stretch/>
        </p:blipFill>
        <p:spPr>
          <a:xfrm>
            <a:off x="4270320" y="2685960"/>
            <a:ext cx="3657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PERDIDAS PATOLOGICA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9640" y="1773360"/>
          <a:ext cx="7488360" cy="4863960"/>
        </p:xfrm>
        <a:graphic>
          <a:graphicData uri="http://schemas.openxmlformats.org/drawingml/2006/table">
            <a:tbl>
              <a:tblPr/>
              <a:tblGrid>
                <a:gridCol w="2868840"/>
                <a:gridCol w="2333520"/>
                <a:gridCol w="2286000"/>
              </a:tblGrid>
              <a:tr h="276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M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MINU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na Radi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ubadora (RN P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t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do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madu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quip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ilador humid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queost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TO GASTROINTEST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m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cción de S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i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/Anu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SCELA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enaje quirúr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potiroid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cer espa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DE ADMINISTRACIÓ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: Reg 0, deshidratación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Grado de deshidrat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ipo Osmola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so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ndemnidad de la función rena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s de Gastroenteritis Aguda estudios demuestran que el aporte por vía oral a través de Gastroclisis, sonda nasogástrica son mejor tolerados y pueden reponer el déficit en pocas horas (4 HORAS), lo que evitaría la hospitalizació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n Sales de Rehidratación con Na⁺ 45 – 60 meq/L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1f497d"/>
                </a:solidFill>
                <a:latin typeface="Century Schoolbook"/>
              </a:rPr>
              <a:t>HIDRATACION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218556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Glucosa 111 mM/L (20 g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odio 90 mEq/L (lactantes sodio 45-60mEq/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otasio 2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itrato 3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loruro 80 mEq/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143000" y="17524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LUCION 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e puede ser calculado en deshidratación leve o moderada de la siguiente form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Hidratación límite o deshidratación leve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-10 ml/k después de cada deposi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5ml  a 10 ml o 1 -2 cucharada cada 5 minutos administrar en 2 a 4 hor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2 ml/K después de cada vómit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leve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50cc/K = 415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5cc (60cc/hr) a 10 cc (120cc/hr) cada 5 minutos por 4 horas =  240cc a 48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 – 15 cc/K (83 - 124 cc) por 4 horas = 330 - 498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eshidratación Moderada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50 – 100 ml/K/hr administrar en 2  a 4 ho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20 ml o 4 cucharada cada 5 minutos (240 cc/h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Si no tolera, administrar bolo Suero Fisiológico 20cc/K y continuar con aporte vía 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VIA O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ctante de 7 meses, 8,3 Kg, deshidratado moderado aporte en 4 hor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100 cc/K = 83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olumen 15cc (180cc/hr) a 20 cc (240 cc/hr) cada 5 minutos por 4 horas =  720cc a 960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– 30 cc/K (166 -  249 cc) por 4 horas = 664 - 996 c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VIA DE ADMINISTR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VIA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hospitalizados se ha preferido la utilización de la vía parenteral que permite un aporte directo al intravascula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utiliza en el caso de  pacientes, en condi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Sh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Deshidratados sever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omprometidos de concienc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Ile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n ayun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AGUA ES EL PRINCIPAL COMPONENTE DEL ORGANISM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395280" y="2278080"/>
          <a:ext cx="8345520" cy="33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8080"/>
                    <a:ext cx="834552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49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755640" y="1901880"/>
          <a:ext cx="6718320" cy="4041720"/>
        </p:xfrm>
        <a:graphic>
          <a:graphicData uri="http://schemas.openxmlformats.org/drawingml/2006/table">
            <a:tbl>
              <a:tblPr/>
              <a:tblGrid>
                <a:gridCol w="843120"/>
                <a:gridCol w="1365120"/>
                <a:gridCol w="944640"/>
                <a:gridCol w="1363680"/>
                <a:gridCol w="2201760"/>
              </a:tblGrid>
              <a:tr h="102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C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D.  PATOLO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.: Pacte. de 10 K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  Le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órm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 (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3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500 + 300 =   18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  Mode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 (10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4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000 + 400 = 2.4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 Sev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li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(150%) requer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 50 mL/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+ 1500 + 400 = 2.900 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Rectangle 39"/>
          <p:cNvSpPr/>
          <p:nvPr/>
        </p:nvSpPr>
        <p:spPr>
          <a:xfrm>
            <a:off x="755640" y="1281600"/>
            <a:ext cx="604836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á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culo de aporte de volumen seg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ú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 grado de deshidrataci</a:t>
            </a:r>
            <a:r>
              <a:rPr b="1" lang="es-ES" sz="1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 administra la mitad del volumen en las primeras 8 horas y el resto en las próximas 16 horas. O se calcula en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tros en urgencia recuperan déficit en 4 hrs. Y realiment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la rehidratación debe evaluarse clínicamente de manera continua y reevaluar el aporte si es neces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o olvidar que en deshidrataciones hipertónicas la reposición del déficit debe ser más lenta y por tanto se calcula la mitad del déficit para las primeras 24 horas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VIA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compromiso hemodinámico o shock se debe administrar bolos de Sol. Fisiológica 20cc/K en 20 minutos, repetir hasta lograr mejoría en estado hemodinámic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so de no recuperar presiones puede administrarse soluciones coloidales y luego instalar CVC para administrar drogas vasoactiv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TIPO DE FLUIDO PARENTERA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acientes sanos la administración de fluidos endovenosos debería ser dado en solución salina (Suero fisiológico 0,9%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ₒ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) 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preparados con glucosa 5% + electrolitos (Na⁺ 70meq/lt + K⁺ si la función renal está conservada) esto último para asegurar aporte de glucosa a nivel cerebral, disminuir el catabolismo proteico y evitar la cetoacidosi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aportar soluciones bajas en electrolitos y mantenidas en el tiempo, contribuye a aumentar el riesgo de hiponatrem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EPARADOS DE NACL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1 g de NaCl aporta 17 mEq de Na y 17 mEq de C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Usamos NaCl 10%, o sea que en l0 cc de NaCl 10% tenemos 1 g de este compuesto, vale decir 17 mEq de Na (1,7 mEq/ml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10 cc de NaCl 10% en 500 cc de solución glucosada 5%, estamos poniendo 17 mEq de sodio en medio litro de solución, o sea, 34 mEq en 1 litr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i ponemos 20 cc NaCl 10% en 1000cc de SG 5%, aportaremos 68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SOLUCIONES SEGÚN TIPO OSMO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Tonicidad de la solución según tipo osmola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Desh. hipertónica (natremia &gt;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30 - 4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isotónica (natremia 130 - 15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50 - 6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(natremia 120 - 130):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Tonic. 70 - 8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Schoolbook"/>
              </a:rPr>
              <a:t>- Desh. hipotónica severa (natremia &lt; 120):Tonic. 80 - 100 mEq/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PRIMERA PART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44" name="6 Marcador de posición de imagen" descr="http://2.bp.blogspot.com/-MoWk1mUF5Jk/UZpPQHZneQI/AAAAAAAAA6U/QSsZv0802D8/s1600/breakandcontinue.jpg"/>
          <p:cNvPicPr/>
          <p:nvPr/>
        </p:nvPicPr>
        <p:blipFill>
          <a:blip r:embed="rId1"/>
          <a:stretch/>
        </p:blipFill>
        <p:spPr>
          <a:xfrm>
            <a:off x="1476360" y="1484280"/>
            <a:ext cx="51656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TOMAMOS FELICES!!!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3 Imagen" descr="http://pensamientospositivos9.files.wordpress.com/2011/08/r-positivo-_1.jpeg?w=300&amp;h=200"/>
          <p:cNvPicPr/>
          <p:nvPr/>
        </p:nvPicPr>
        <p:blipFill>
          <a:blip r:embed="rId1"/>
          <a:stretch/>
        </p:blipFill>
        <p:spPr>
          <a:xfrm>
            <a:off x="1908000" y="1844640"/>
            <a:ext cx="5472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KALEMIA sobre 5,5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´CAUS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emóli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idosis metaból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suficiencia Renal A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Hipoaldosteronismo (HSRC perdedora de sa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ármacos: (-) ECA, AI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Rectángulo"/>
          <p:cNvSpPr/>
          <p:nvPr/>
        </p:nvSpPr>
        <p:spPr>
          <a:xfrm>
            <a:off x="539640" y="907920"/>
            <a:ext cx="770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: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la cantidad de un sustrato o nutriente que asegura la integridad y  buen funcionamiento d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QUERIMIENTO BASAL: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es el requerimiento de un individuo en condiciones metabólicas ba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RECOMENDACIÓN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: es una cantidad mayor que el requerimiento y que pretende asegurar un adecuado aporte a los individuos de una población, considerando la variabilidad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PERKALEMIA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TAMIENTO: Monitorización UPC o U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sinas de Intercambio Ionico: Kayexe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 gr/K rectal u oral diluido el glu HT (30 o 50%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Gluconato de Calcio ev lento 1cc/k en 30 minutos, seguido de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&lt;bicarbonato de Na</a:t>
            </a:r>
            <a:r>
              <a:rPr b="0" lang="es-ES" sz="21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 1 meq/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Glucosa + Insul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&lt; 135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atrogen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sminución del volumen circulante: pérdidas gastrointestinales (diarrea, vómitos), Dérmicas FQ), Renales (Nefropatía perdedora de sal, diuréticos, hipoaldosteronismo, Estado edematoso (I. Crdíaca, cirrosis, Sd. Nefrót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iuréticos tiazíd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. Renal: Ag y C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xceso ADH (Secreción inapropiada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O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hay compromiso neurológico (cefalea, náuseas, CEG, letargia, convulsion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olución Salina HT 3% (NaCl 10% diluído 1/3 + 2/3 SG 5%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Objetivo llevar Natremia a 125 meq/l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éficit= (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eseado - Na⁺ actual)x 0,3x pes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BIC     1-2meq/lt/h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Idealmente el  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⁺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no debe ser mayor a 10-15meq/d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Si no hay compromiso neurológico no requiere corrección con solución salina hipertón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2050920" y="3716280"/>
            <a:ext cx="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 flipV="1">
            <a:off x="2771640" y="4220640"/>
            <a:ext cx="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entury Schoolbook"/>
              </a:rPr>
              <a:t>HIPERNATREMIA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&gt; 145-15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éficit de agua lib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poner el 50% del déficit en las primeras 24 h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iendo del valor de 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⁺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rregir con soluciones 40-30-20 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velocidad de corrección no &gt; 1 meq/Hr o 15 meq/24 h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entury Schoolbook"/>
              </a:rPr>
              <a:t>RECAPITULEM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838080" y="68580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CID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stado fisiopatológic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n que hay más ácido 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enos base de l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914400" y="3581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Times New Roman"/>
                <a:ea typeface="Arial"/>
              </a:rPr>
              <a:t>ALCALOSI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Hay más base o menos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 de lo 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3300"/>
                </a:solidFill>
                <a:latin typeface="Century Schoolbook"/>
              </a:rPr>
              <a:t>ALTERACIONES ÁCIDO - BÁSICAS:</a:t>
            </a:r>
            <a:endParaRPr b="0" lang="en-US" sz="48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Des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Parcialmente 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Schoolbook"/>
              </a:rPr>
              <a:t>Compensada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027"/>
          <p:cNvSpPr/>
          <p:nvPr/>
        </p:nvSpPr>
        <p:spPr>
          <a:xfrm>
            <a:off x="942480" y="1600200"/>
            <a:ext cx="698436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                         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+   H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+ CO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028"/>
          <p:cNvGrpSpPr/>
          <p:nvPr/>
        </p:nvGrpSpPr>
        <p:grpSpPr>
          <a:xfrm>
            <a:off x="2516040" y="1981080"/>
            <a:ext cx="1904760" cy="152280"/>
            <a:chOff x="2516040" y="1981080"/>
            <a:chExt cx="1904760" cy="152280"/>
          </a:xfrm>
        </p:grpSpPr>
        <p:sp>
          <p:nvSpPr>
            <p:cNvPr id="468" name="Line 1029"/>
            <p:cNvSpPr/>
            <p:nvPr/>
          </p:nvSpPr>
          <p:spPr>
            <a:xfrm>
              <a:off x="2516040" y="1981080"/>
              <a:ext cx="19047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030"/>
            <p:cNvSpPr/>
            <p:nvPr/>
          </p:nvSpPr>
          <p:spPr>
            <a:xfrm flipH="1">
              <a:off x="2591640" y="2133360"/>
              <a:ext cx="175284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Line 1033"/>
          <p:cNvSpPr/>
          <p:nvPr/>
        </p:nvSpPr>
        <p:spPr>
          <a:xfrm flipH="1" flipV="1">
            <a:off x="1448280" y="2502000"/>
            <a:ext cx="2160" cy="110808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034"/>
          <p:cNvSpPr/>
          <p:nvPr/>
        </p:nvSpPr>
        <p:spPr>
          <a:xfrm flipH="1" flipV="1">
            <a:off x="1600560" y="2549520"/>
            <a:ext cx="2160" cy="11080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2"/>
          <p:cNvSpPr txBox="1"/>
          <p:nvPr/>
        </p:nvSpPr>
        <p:spPr>
          <a:xfrm>
            <a:off x="609480" y="2895480"/>
            <a:ext cx="17812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osis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WordArt 3"/>
          <p:cNvSpPr txBox="1"/>
          <p:nvPr/>
        </p:nvSpPr>
        <p:spPr>
          <a:xfrm>
            <a:off x="5943600" y="2971800"/>
            <a:ext cx="18763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lcalosis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WordArt 4"/>
          <p:cNvSpPr txBox="1"/>
          <p:nvPr/>
        </p:nvSpPr>
        <p:spPr>
          <a:xfrm>
            <a:off x="3276720" y="129528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etabólica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3124080" y="4591080"/>
            <a:ext cx="2190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spiratoria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AutoShape 6"/>
          <p:cNvSpPr/>
          <p:nvPr/>
        </p:nvSpPr>
        <p:spPr>
          <a:xfrm rot="19884600">
            <a:off x="1905120" y="228564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 rot="2404800">
            <a:off x="1790280" y="392400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8"/>
          <p:cNvSpPr/>
          <p:nvPr/>
        </p:nvSpPr>
        <p:spPr>
          <a:xfrm rot="8585400">
            <a:off x="5029200" y="411408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 rot="13384200">
            <a:off x="5105520" y="220896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3" descr="Sin título2"/>
          <p:cNvPicPr/>
          <p:nvPr/>
        </p:nvPicPr>
        <p:blipFill>
          <a:blip r:embed="rId1"/>
          <a:stretch/>
        </p:blipFill>
        <p:spPr>
          <a:xfrm>
            <a:off x="380880" y="700200"/>
            <a:ext cx="85345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EL CONTROL DE LA OSMOLARIDAD PLASMÁTICA Y DEL VOLUMEN INTRAVASCULAR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2349000"/>
            <a:ext cx="746748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DH:  AUMENTO DE OSMOLARIDAD, EN TUBULO COLECTOR PRODUCE APERTURA CANALES DE AG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ED: ESTIMULADA POR OSMORECEPTOR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Y BARORECEPT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MBOS MECANISMOS LLEVAN A UN AUMENTO DEL AGUA Y DISMINUCION OSMOLAR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026" descr="Sin título3"/>
          <p:cNvPicPr/>
          <p:nvPr/>
        </p:nvPicPr>
        <p:blipFill>
          <a:blip r:embed="rId1"/>
          <a:stretch/>
        </p:blipFill>
        <p:spPr>
          <a:xfrm>
            <a:off x="304920" y="1028880"/>
            <a:ext cx="8426160" cy="54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Sin título1"/>
          <p:cNvPicPr/>
          <p:nvPr/>
        </p:nvPicPr>
        <p:blipFill>
          <a:blip r:embed="rId1"/>
          <a:stretch/>
        </p:blipFill>
        <p:spPr>
          <a:xfrm>
            <a:off x="1066680" y="173160"/>
            <a:ext cx="693432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GASES EN SANGRE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H: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informa sobre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hidrogenion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CO</a:t>
            </a:r>
            <a:r>
              <a:rPr b="0" lang="es-MX" sz="1400" spc="-1" strike="noStrike">
                <a:solidFill>
                  <a:srgbClr val="ff3300"/>
                </a:solidFill>
                <a:latin typeface="Century Schoolbook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informa sobre el component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respirator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Déficit de base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informa sobre el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omponente metaból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Bicarbonato estándar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: es la concentración de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bicarbonato que existiría con una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PCO2 de 40 mm H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ff3300"/>
                </a:solidFill>
                <a:latin typeface="Century Schoolbook"/>
              </a:rPr>
              <a:t>1 gramo de bicarbonato de sodio aporta 11,9 mEq de ion sodio y 11,9 mEq de ion    bicarbona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/6 M: 0,1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2/3 M: 0,6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5%: 0,6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Bicarbonato 8,4%: 1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icarbonato 10%: 1,2 mEq/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CÁLCULO DE BICARBONAT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.B. X peso del paciente X 0,6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(de esta cantidad se aporta sólo la mitad en las primeras 24 hor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3 a 5 mEq/K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Century Schoolbook"/>
              </a:rPr>
              <a:t>CORRECCIÓN ACIDOSI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H &lt; 7,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icarbonato st &lt; 12meq/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 valores mayores si hay pérdidas aumentadas y manteni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 CAD los valores son: pH &lt;6,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3300"/>
                </a:solidFill>
                <a:latin typeface="Century Schoolbook"/>
              </a:rPr>
              <a:t>BICARBONATO DE SODI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Al corregir acidosis con bicarbonato se modifica concentración d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Potas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K+ vuelve al compartimiento intracelular. Potasio corregido se obtiene restando 0,6 mEq por cada décima de pH que se corri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Century Schoolbook"/>
              </a:rPr>
              <a:t>Calcio</a:t>
            </a:r>
            <a:r>
              <a:rPr b="0" lang="es-MX" sz="2800" spc="-1" strike="noStrike">
                <a:solidFill>
                  <a:srgbClr val="0033cc"/>
                </a:solidFill>
                <a:latin typeface="Century Schoolbook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Century Schoolbook"/>
              </a:rPr>
              <a:t>Ca++ vuelve a hueso. Corrección rápida lleva a riesgo de hipocalcemi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195280" y="4437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entury Schoolbook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5" name="Picture 1" descr="C:\Documents and Settings\thelma\Mis documentos\Documentos Thelma\CLASES\NIÑOS.jpg"/>
          <p:cNvPicPr/>
          <p:nvPr/>
        </p:nvPicPr>
        <p:blipFill>
          <a:blip r:embed="rId1"/>
          <a:stretch/>
        </p:blipFill>
        <p:spPr>
          <a:xfrm>
            <a:off x="1908000" y="549360"/>
            <a:ext cx="63597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REGULACION DEL VOLUMEN INTRAVASCULAR 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PENDE 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Balance de Sodio (Na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El consumo y la excreción ocurre a nivel renal, este a su vez depende de la filtración glomerular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Túbulo proximal se reabsorbe el 65% del Na⁺ filtrado, el resto se reabsorbe en el asa de Henle y finalmente a nivel del túbulo distal por acción de aldosterona que produce reabsorción de Na⁺ y excreción de Potasio (K⁺)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Cualquier cambio en estos factores llevará a un aumento o disminución en la concentración de Na⁺ y/o K⁺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f497d"/>
                </a:solidFill>
                <a:latin typeface="Century Schoolbook"/>
              </a:rPr>
              <a:t>HIDRATACION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 establecer un plan de hidratación se debe tomar en cuent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- la necesidad basal de agua o requeri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défici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presencia de pérdidas patológica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vía de administración: oral o parente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ipo  de fluido ideal para administr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- trastornos electrolíticos y ácido-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C:\Documents and Settings\thelma\Mis documentos\Documentos Thelma\CLASES\bebes_necesitan_beber_agua.jpg"/>
          <p:cNvPicPr/>
          <p:nvPr/>
        </p:nvPicPr>
        <p:blipFill>
          <a:blip r:embed="rId1"/>
          <a:stretch/>
        </p:blipFill>
        <p:spPr>
          <a:xfrm>
            <a:off x="5867280" y="2205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700280"/>
            <a:ext cx="7467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necesidades basales de agua están dadas po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s pérdidas insensibles (piel, pulmones)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érdidas obligadas por orina y deposiciones 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or la actividad dinámica específic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Century Schoolbook"/>
              </a:rPr>
              <a:t>REQUERIMIENTOS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Tradicionalmente se ha utilizado la fórmula de Holliday que permite el rápido cálculo de volumen  y homologa el gasto calórico a las necesidades de agua y se calcula según lo siguient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00 ml o kcal/Kg los primero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50 ml o Kcal/Kg los siguientes 10 Kg. 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0 ml o kcal/Kg desde los 20 Kg en adela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0:21:01Z</dcterms:created>
  <dc:creator>Valued Packard Bell Customer</dc:creator>
  <dc:description/>
  <dc:language>en-US</dc:language>
  <cp:lastModifiedBy>Usuario</cp:lastModifiedBy>
  <dcterms:modified xsi:type="dcterms:W3CDTF">2015-04-17T02:04:10Z</dcterms:modified>
  <cp:revision>48</cp:revision>
  <dc:subject/>
  <dc:title>Diapositiva 1</dc:title>
</cp:coreProperties>
</file>